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E0C5-E743-4E41-A9A3-0DCD5EDAE0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accc.gov.au/content/index.phtml/itemId/1039349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techsupportalert.com/SecWiz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24DC-51B4-4788-9542-4F9A0AE64E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to get your modems IP address: Check doco.  Or cmd; ipconfig; setting under ‘Default Gateway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n save as a favourite / book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fault logon and password usually Ad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ublic access points – as per slid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9D02-8ED0-4EAE-8E5E-AE069DA953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 not call register only stops Australian firms.  Won’t stop calls from overs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ren are very computer savvy.  They will quickly go to sites, download games etc. These can install malware, unwanted search systems and toolbars.  At worst are vir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ke sure that your account has a password and that children have their own restricted acc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andout with some good advice and plenty of links is at www.tinyurl.com/bfs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059A-3E57-4BDC-9117-12DE6BF141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BAF3-422A-4D62-8C41-49E8735B98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AMwatch – division of ACCC (Australian Competition and Consumer Commi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tual losses would be higher as ACCC is only one of several ag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88% reported no financial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st common loss in 2010 was $1000 to $9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ss marketed advance fee fraud is the highest reported scam &gt; ½ the reports (consist of advance fee/up-front payment, lottery and sweepstakes, unexpected prizes, and dating and romance sca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puter hacking was second (23% of reports) largely due to scam phone calls requesting remote access to ‘fix’ technical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ported scams most common in the 25-54 ag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report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ccc.gov.au/content/index.phtml/itemId/1039349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 VERY good re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subscribe to the SCAMwatch newsle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A846-B2AA-4E55-AD27-DA2FE67DE8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hone – would you believe a stranger who said they worked for xxxx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redit Card – there are card readers ou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ont door – ‘we’re in the neighbourhood and noticed a couple of cracked tiles…..’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reet - ‘We are collecting on behalf of sob, sob s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latives – Why wait till she/he has gone.  I need it now. Trust me with the password.  I’ll look after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ternet is just another communication channel.  Not to be fe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0EB5-796D-4A33-9750-03CA057C28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order up to 100.  Now smaller. Link is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have read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link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C95-A0A4-4E90-8FB9-8DA463199A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, too good to be true; something for 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y name is Bill Gates. Disprove it ple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tell important passwords to others, including rel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n filling in forms only provide the minimum required.  Fields usually have an aster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your proposed deal with others. Shop a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leep on it. Stop and thi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et and distribute Scamwatch newsletters; read Black Book and 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549D-A6BE-4405-A8CD-760C2BDCB7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SE, AVG, Avast, Avira  all free and work f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ses one of the free antivirus programs?  Any com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can truthfully say their PC is fully patc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 – some antivirus have built in – eg AVG.  I use an addin called Web Of Trust (W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 approach to protection is well explain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6AB9-DA0A-4C81-BB87-766DA36380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ily re-creatable rather than commit to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a recognisable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ix of characters and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How many people change their passwor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ack and Jill went up the h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ry had a little lamb….. Upper case M for Mary, 1 substitutes for l, 5 for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ohn, Mary, tom, catherine and noel live at post code 2756. Note upper case for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rson a’s birthday is 4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December, AND b’s is 13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2948-7FAF-4330-828E-9D8B41A6B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s are WOT, AV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’s on the page and where the link ACTUALLY goes are totally different. Sometimes the status bar needs turning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estion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knows how to kill off a process? (Ctrl+Alt+Esc, Process tab)  Or how to shut power off a laptop? (Hold power button in for 7-10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If necessary, Appshare to sh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ax emails: eg “…It is a virus that opens an Olympic torch that burns the whole hard disc…”. Just highlight a key phrase eg “opens an Olympic torch”. Reliable checks sites are snopes.com, hoax-slayer.com; urbanlegends.about.com; truthorfiction.com; sopho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ww.museumofhoaxes.com is worth a brow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izmos security wizard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chsupportalert.com/SecWiz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se are list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84EB-F02C-48D4-96AD-AB07B8D698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F25-1926-4B1E-9474-673C1A0A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A46-8A9E-4EF1-83D8-D02BE5E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974-96F0-4947-976F-14808D0F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F1D-5D87-466C-990D-ABC40C60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D9C-6041-4571-B7CB-D438AB38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E40-3965-4F3B-8179-20C62341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F7A-6D25-44C4-BE66-126D74E8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53A-941E-46C3-9B1C-D0C7D7F7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F66-ECED-4FB1-9929-C40A489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2EC-664A-4C11-882E-E0BD5F22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E0E-EF05-4B47-985F-689502D0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EE8-CF3D-4E97-8550-415AD53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C3AE-A3D1-417A-9758-806490357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Calibri"/>
              </a:rPr>
              <a:t>Cyber Security</a:t>
            </a: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oodrising Neighbourhood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E:\KHSaveFiles\Seniors Computer Club\Training\Hunter Community College\KH TSS Modules\TSS1.1 Cybersafety\cybersafety.jpg"/>
          <p:cNvPicPr/>
          <p:nvPr/>
        </p:nvPicPr>
        <p:blipFill>
          <a:blip r:embed="rId2"/>
          <a:stretch/>
        </p:blipFill>
        <p:spPr>
          <a:xfrm>
            <a:off x="914400" y="2971800"/>
            <a:ext cx="7388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Wi-Fi / Caf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ome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cure your home Wi-Fi access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t an Admin account pass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onsider MAC address filte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ublic access points (internet cafes / oth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void financial transa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ake sure to log out of every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Untick ‘Remember Me’; Don’t save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nsure https: for sensitive inf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Users\Keith\AppData\Local\Microsoft\Windows\Temporary Internet Files\Content.IE5\8WDX1VGE\MC900389832[1].wmf"/>
          <p:cNvPicPr/>
          <p:nvPr/>
        </p:nvPicPr>
        <p:blipFill>
          <a:blip r:embed="rId2"/>
          <a:stretch/>
        </p:blipFill>
        <p:spPr>
          <a:xfrm flipH="1">
            <a:off x="7219440" y="457200"/>
            <a:ext cx="1995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und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752120"/>
            <a:ext cx="8076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 Not Call Reg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ildren using Nans / Pops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perv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restricted account with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out at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ww.tinyurl.com/BFS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ood security tips from Gizmos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s to several othe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Program Files (x86)\Microsoft Office XP\Media\CntCD1\ClipArt2\j0215007.wmf"/>
          <p:cNvPicPr/>
          <p:nvPr/>
        </p:nvPicPr>
        <p:blipFill>
          <a:blip r:embed="rId2"/>
          <a:stretch/>
        </p:blipFill>
        <p:spPr>
          <a:xfrm>
            <a:off x="6727680" y="304920"/>
            <a:ext cx="207648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80880" y="116820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Program Files (x86)\Microsoft Office XP\Media\CntCD1\ClipArt6\j0293498.wmf"/>
          <p:cNvPicPr/>
          <p:nvPr/>
        </p:nvPicPr>
        <p:blipFill>
          <a:blip r:embed="rId2"/>
          <a:stretch/>
        </p:blipFill>
        <p:spPr>
          <a:xfrm>
            <a:off x="609480" y="2209680"/>
            <a:ext cx="2471760" cy="202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Program Files (x86)\Microsoft Office XP\Media\CntCD1\ClipArt5\j0282178.wmf"/>
          <p:cNvPicPr/>
          <p:nvPr/>
        </p:nvPicPr>
        <p:blipFill>
          <a:blip r:embed="rId3"/>
          <a:stretch/>
        </p:blipFill>
        <p:spPr>
          <a:xfrm>
            <a:off x="7238880" y="2209680"/>
            <a:ext cx="1524240" cy="1757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Keith\AppData\Local\Microsoft\Windows\Temporary Internet Files\Content.IE5\1NK5L1KL\MC900059396[1].wmf"/>
          <p:cNvPicPr/>
          <p:nvPr/>
        </p:nvPicPr>
        <p:blipFill>
          <a:blip r:embed="rId4"/>
          <a:stretch/>
        </p:blipFill>
        <p:spPr>
          <a:xfrm>
            <a:off x="3809880" y="4232160"/>
            <a:ext cx="1836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Of Concer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339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2009 survey of Australian consumers by Australian Communications and Media Authority (ACMA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nly 49% of respondents had installed anti - virus softw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nly 21% of respondents 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ad firewal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C:\Users\Keith\AppData\Local\Microsoft\Windows\Temporary Internet Files\Content.IE5\H1VX6ARK\MC900141197[1].wmf"/>
          <p:cNvPicPr/>
          <p:nvPr/>
        </p:nvPicPr>
        <p:blipFill>
          <a:blip r:embed="rId2"/>
          <a:stretch/>
        </p:blipFill>
        <p:spPr>
          <a:xfrm>
            <a:off x="6095880" y="4280040"/>
            <a:ext cx="30290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Calibri"/>
              </a:rPr>
              <a:t>We’re in the Wrong Busines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2011 SCAMwatch Repor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83,150 contacts. Double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$85.6 m reported ($63.4m, 20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$: advance fee; winnings; roman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Most common loss $100 - $4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creased high volum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52% by phone (33%, 20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Keith\AppData\Local\Microsoft\Windows\Temporary Internet Files\Content.IE5\1NK5L1KL\MC900287591[1].wmf"/>
          <p:cNvPicPr/>
          <p:nvPr/>
        </p:nvPicPr>
        <p:blipFill>
          <a:blip r:embed="rId2"/>
          <a:stretch/>
        </p:blipFill>
        <p:spPr>
          <a:xfrm flipH="1">
            <a:off x="6857640" y="4129200"/>
            <a:ext cx="2133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llaying F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cammers come in all fo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nt 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ternet is just another aven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Prevention better than c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Keith\AppData\Local\Microsoft\Windows\Temporary Internet Files\Content.IE5\T5X79AWJ\MC900355387[1].wmf"/>
          <p:cNvPicPr/>
          <p:nvPr/>
        </p:nvPicPr>
        <p:blipFill>
          <a:blip r:embed="rId2"/>
          <a:stretch/>
        </p:blipFill>
        <p:spPr>
          <a:xfrm>
            <a:off x="6324480" y="2057400"/>
            <a:ext cx="245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Little Black Book of Sc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ustralian Competition and Consumer Com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ownload pd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rder up to 100 cop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Great hand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ress to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READ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738760" y="2335320"/>
            <a:ext cx="3089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impl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1760" y="1295280"/>
            <a:ext cx="79246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its too good to be true then it probably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thing for Nothing – not likel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know who they 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divulge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ly provide bare minimum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scuss with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op and Th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Cyber &amp; Scam Sav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Keith\AppData\Local\Microsoft\Windows\Temporary Internet Files\Content.IE5\1NK5L1KL\MC900379211[1].wmf"/>
          <p:cNvPicPr/>
          <p:nvPr/>
        </p:nvPicPr>
        <p:blipFill>
          <a:blip r:embed="rId2"/>
          <a:stretch/>
        </p:blipFill>
        <p:spPr>
          <a:xfrm>
            <a:off x="5867280" y="4745160"/>
            <a:ext cx="30481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Keith’s Basic Preca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tivirus program. Free ones 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ewall On. Windows one is f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ndows fully pat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full virus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malwarebytes occas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Checker (W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good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COMMON SE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Keith\AppData\Local\Microsoft\Windows\Temporary Internet Files\Content.IE5\D1U2VAK6\MC900290341[1].wmf"/>
          <p:cNvPicPr/>
          <p:nvPr/>
        </p:nvPicPr>
        <p:blipFill>
          <a:blip r:embed="rId2"/>
          <a:stretch/>
        </p:blipFill>
        <p:spPr>
          <a:xfrm>
            <a:off x="6588000" y="2209680"/>
            <a:ext cx="2286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Password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1760" y="1142640"/>
            <a:ext cx="7924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ke easily re-crea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a dictionary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x UPPER, lower, $%^#, 27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re characters the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nge – how of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&amp;Jw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ha11ifwwa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Mtcn@27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0412&amp;b13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Keith\AppData\Local\Microsoft\Windows\Temporary Internet Files\Content.IE5\1NK5L1KL\MC900390834[1].wmf"/>
          <p:cNvPicPr/>
          <p:nvPr/>
        </p:nvPicPr>
        <p:blipFill>
          <a:blip r:embed="rId2"/>
          <a:stretch/>
        </p:blipFill>
        <p:spPr>
          <a:xfrm>
            <a:off x="5638680" y="3446640"/>
            <a:ext cx="28195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C:\Users\Keith\AppData\Local\Microsoft\Windows\Temporary Internet Files\Content.IE5\8WDX1VGE\MC900439344[1].jpg"/>
          <p:cNvPicPr/>
          <p:nvPr/>
        </p:nvPicPr>
        <p:blipFill>
          <a:blip r:embed="rId1"/>
          <a:srcRect l="21845" t="0" r="16983" b="0"/>
          <a:stretch/>
        </p:blipFill>
        <p:spPr>
          <a:xfrm>
            <a:off x="6673680" y="1219320"/>
            <a:ext cx="247032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afe Surfing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69343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Link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Know where the link is going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click OK or install those alarming ‘you have been infected’ popups. Know how to kill of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gnise hoax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izmos security wiz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eith</dc:creator>
  <dc:description/>
  <dc:language>en-US</dc:language>
  <cp:lastModifiedBy>Keith</cp:lastModifiedBy>
  <dcterms:modified xsi:type="dcterms:W3CDTF">2014-01-26T08:54:51Z</dcterms:modified>
  <cp:revision>130</cp:revision>
  <dc:subject/>
  <dc:title>Where To Start</dc:title>
</cp:coreProperties>
</file>